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41F0-79A7-458C-80FD-F80ABDF13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start out by highlighting significant trends in air pollution monitoring an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we will describe an agile information system architecture for air quality decision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, we will show the application of this architecture and technologies for two use cases: a real time smoke event analysis and a long-term model eval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772B-70EA-4242-9607-D24ED21FF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r quality applications considered for AIP II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al-time information service to the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latory analysis for maintaing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emispheric transport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 of science and edu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6B42-9743-4D1B-B9F4-4AF9E427D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860-C8AA-46FE-BF31-EC0E846E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2E44-4F8A-4CA2-A4FF-C04A84DD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D97-2518-4B61-A923-8DDBDE35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BBEA-DFE3-4356-BBB2-1A92FC6A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6FF-23C6-4077-8DFF-912EEE0E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5646-A16D-43CD-8DF2-0CC65A9F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A93B-BB60-4879-810E-4C61B7B1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75A5-6155-42E4-A08B-B8EE5D4E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7AA4-3EB9-4553-A140-6E1D0CAC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788B-61DE-433C-B3B5-8B4DB14C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0535-FC9E-4289-BEA5-F6EE7E9F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749F-172D-4475-9A07-24C27AA4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datafed.net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144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24816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D142-603A-4148-99FD-61B1FA8B1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9600" y="6662880"/>
            <a:ext cx="914400" cy="195120"/>
          </a:xfrm>
          <a:prstGeom prst="rect">
            <a:avLst/>
          </a:prstGeom>
          <a:ln w="12600">
            <a:solidFill>
              <a:srgbClr val="66ffff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TAP Data Network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gress Report, Jun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94360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IP Summer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uly 8, 2009, Santa Barbara, 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4191120"/>
            <a:ext cx="716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udolf B. Hus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ashington U.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tin Schultz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 FZ Jeulich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reg Leptouk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NASA GSFC,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1514520"/>
            <a:ext cx="716292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143000" y="152280"/>
            <a:ext cx="7467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 of HTAP-Giovanni Analysis and 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O3map"/>
          <p:cNvPicPr/>
          <p:nvPr/>
        </p:nvPicPr>
        <p:blipFill>
          <a:blip r:embed="rId1"/>
          <a:stretch/>
        </p:blipFill>
        <p:spPr>
          <a:xfrm>
            <a:off x="579600" y="838080"/>
            <a:ext cx="3992400" cy="2851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O3dif"/>
          <p:cNvPicPr/>
          <p:nvPr/>
        </p:nvPicPr>
        <p:blipFill>
          <a:blip r:embed="rId2"/>
          <a:stretch/>
        </p:blipFill>
        <p:spPr>
          <a:xfrm>
            <a:off x="533520" y="4038480"/>
            <a:ext cx="4038480" cy="26002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457200" y="685800"/>
            <a:ext cx="38862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ime-averaged ozone for SR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0" y="3657600"/>
            <a:ext cx="45720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ime-avg. difference between SR1 and SR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3124080" y="51055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>
            <a:off x="5334120" y="16002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Zonal"/>
          <p:cNvPicPr/>
          <p:nvPr/>
        </p:nvPicPr>
        <p:blipFill>
          <a:blip r:embed="rId3"/>
          <a:stretch/>
        </p:blipFill>
        <p:spPr>
          <a:xfrm>
            <a:off x="5257800" y="4343400"/>
            <a:ext cx="3689280" cy="2209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TS"/>
          <p:cNvPicPr/>
          <p:nvPr/>
        </p:nvPicPr>
        <p:blipFill>
          <a:blip r:embed="rId4"/>
          <a:stretch/>
        </p:blipFill>
        <p:spPr>
          <a:xfrm>
            <a:off x="5257800" y="1082520"/>
            <a:ext cx="3602160" cy="23464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5943600" y="609480"/>
            <a:ext cx="14479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ime 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6095880" y="3809880"/>
            <a:ext cx="152424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Zonal 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rge Questions for the Present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898560"/>
            <a:ext cx="84582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at user needs are you focused on now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AQ data ubiquitous through seamless access,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fically to support HTAP, Exceptional Event R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at web services are you offerin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 WCS access to model, obs., emission. Data (100+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rtable data wrapper templates, tools for WCS, W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at services you wish were available? Wh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re data accessible through standard WCS, W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ices are useless without data to operate 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at infrastructure is most need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ster data catalog, metadata and tools for bo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alog-catalog connectivity tools method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at are barriers to common infrastru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options, no dominant design, ever-changing enviro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w incentives to overcome the ‘energy barrier’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TAP Problem: Model-Observation-Emission Closur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572000"/>
            <a:ext cx="4572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37"/>
              </a:spcBef>
              <a:spcAft>
                <a:spcPts val="56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face to user data and ap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37"/>
              </a:spcBef>
              <a:spcAft>
                <a:spcPts val="56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face to GEOSS 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37"/>
              </a:spcBef>
              <a:spcAft>
                <a:spcPts val="56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istency of HTAP dat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1676520"/>
            <a:ext cx="3962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iform access to ES dat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5fa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5fa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faa"/>
                </a:solidFill>
                <a:latin typeface="Verdana"/>
              </a:rPr>
              <a:t>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5fa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faa"/>
                </a:solidFill>
                <a:latin typeface="Verdana"/>
              </a:rPr>
              <a:t>Satellite, surface o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5fa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faa"/>
                </a:solidFill>
                <a:latin typeface="Verdana"/>
              </a:rPr>
              <a:t>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1104840"/>
            <a:ext cx="4114440" cy="4647960"/>
            <a:chOff x="0" y="1104840"/>
            <a:chExt cx="4114440" cy="46479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rcRect l="0" t="11607" r="0" b="0"/>
            <a:stretch/>
          </p:blipFill>
          <p:spPr>
            <a:xfrm>
              <a:off x="0" y="1104840"/>
              <a:ext cx="4114440" cy="46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712080" y="1981440"/>
              <a:ext cx="1424160" cy="78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2880" y="4174200"/>
              <a:ext cx="1424160" cy="78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53040" y="3121920"/>
              <a:ext cx="1344960" cy="10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3085920" y="2858760"/>
              <a:ext cx="0" cy="14032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09680" y="896760"/>
            <a:ext cx="6712200" cy="5961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828880" y="2286000"/>
            <a:ext cx="96048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2752560" y="1981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66960" y="16002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rf. O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14880" y="14479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atelli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77200" y="19051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81560" y="16002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334200" y="1905120"/>
            <a:ext cx="99036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7477200" y="2209680"/>
            <a:ext cx="99036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5191200" y="1752480"/>
            <a:ext cx="1006560" cy="61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3895560" y="1905120"/>
            <a:ext cx="1067040" cy="63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666880" y="4724280"/>
            <a:ext cx="1447920" cy="642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forming the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1295280" cy="642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forcing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4724280"/>
            <a:ext cx="1371600" cy="6426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emispheric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478320" y="4191120"/>
            <a:ext cx="798480" cy="514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033880" y="4348080"/>
            <a:ext cx="184320" cy="34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6120" y="4199040"/>
            <a:ext cx="1006560" cy="44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54100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al-tim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100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gulatory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54100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licy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43880" y="4703760"/>
            <a:ext cx="1447560" cy="642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tmospheric 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0120" y="5365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cience &amp;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94520" y="4408560"/>
            <a:ext cx="162000" cy="299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03400" y="263520"/>
            <a:ext cx="41068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OSS Information Infrastructu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05740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dataset is applicable to multiple u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464832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applications requires multiple data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ata Access Interfa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4572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0" t="31212" r="0" b="0"/>
          <a:stretch/>
        </p:blipFill>
        <p:spPr>
          <a:xfrm>
            <a:off x="5410080" y="2666880"/>
            <a:ext cx="3005280" cy="2971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5105520" y="1219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CS Data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934320" y="213372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1752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W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600200"/>
            <a:ext cx="457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sely coupled compon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343400"/>
            <a:ext cx="457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-Time Qu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248520" y="1295280"/>
            <a:ext cx="2438280" cy="398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1676520"/>
            <a:ext cx="2438640" cy="7038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ovanni          web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914400"/>
            <a:ext cx="2438280" cy="3988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LU E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iovanni for HTAP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egory Leptouk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SA Goddard Space Flight Cen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04920" y="396252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ovanni is a Web-based application to visualize, analyze, Earth scienc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TAP-Giovann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is a portal for visualization and analysis of HTAP multi-model 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304920" y="5562720"/>
            <a:ext cx="883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AP-Giovanni User Interface allows selection of second variable for inter-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5" descr="htap3"/>
          <p:cNvPicPr/>
          <p:nvPr/>
        </p:nvPicPr>
        <p:blipFill>
          <a:blip r:embed="rId1"/>
          <a:stretch/>
        </p:blipFill>
        <p:spPr>
          <a:xfrm>
            <a:off x="304920" y="0"/>
            <a:ext cx="792324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7"/>
          <p:cNvSpPr/>
          <p:nvPr/>
        </p:nvSpPr>
        <p:spPr>
          <a:xfrm>
            <a:off x="380880" y="2971800"/>
            <a:ext cx="7467840" cy="10666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 flipH="1" flipV="1">
            <a:off x="6857640" y="4038480"/>
            <a:ext cx="1143000" cy="1524240"/>
          </a:xfrm>
          <a:prstGeom prst="line">
            <a:avLst/>
          </a:prstGeom>
          <a:ln w="63360">
            <a:solidFill>
              <a:srgbClr val="ff3f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04:07:58Z</dcterms:created>
  <dc:creator> </dc:creator>
  <dc:description/>
  <dc:language>en-US</dc:language>
  <cp:lastModifiedBy> </cp:lastModifiedBy>
  <dcterms:modified xsi:type="dcterms:W3CDTF">2009-07-08T19:43:03Z</dcterms:modified>
  <cp:revision>31</cp:revision>
  <dc:subject/>
  <dc:title>Slide 1</dc:title>
</cp:coreProperties>
</file>